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72D-458D-4559-831B-1AC07602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30C-4507-4821-B3D9-C180802D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9BA47-68A2-4094-9A86-39DBA77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3CEE0-D0D5-4762-B016-A3FDC5E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6B6BF-22EE-45AA-8BE7-3DFDB84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668B1-550B-4F1A-AC07-0D01538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AEB6-1870-4B19-86D5-E703C80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BEF9E-4F0D-4F1B-B83C-76C0E38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C042-D0FC-464B-9E8F-0F1EDC7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512CA-F0A4-4EFB-8454-0AC4E40F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E011-DBC2-4CAC-A4BD-D884185B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70C66-E3FE-4631-A15B-A3446750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416-286C-412D-9CC9-FF8A043B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9374A-53C4-4DC5-BE41-C41B4A7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B2300-28F8-47AE-8EE3-BEA8733A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9EB32-EA05-4891-A34B-A4854D5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C7B7F-1592-45DE-BD8B-207D9F05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50AD-1A1A-4120-B922-FD30F65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2B845-74FC-417C-A715-9BD61AE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920A-E509-4A1F-9501-01FB7622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B1A24-F5BC-4278-95EC-2C2F416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26B9-8A29-4D86-9DB8-6723775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5030C-C246-4A99-85FA-B8A7DB42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448-ECA0-4124-80AB-B79B0A91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81C99-42F6-4340-A099-08D0E5D8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0137F-24DA-4E06-8FD4-3BE02210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E6ED-5F22-4610-9996-4AE4AC8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D6B28-59CD-47D8-BD78-1082E98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C653-AB02-474B-B558-BE5800A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043E-46E0-471D-AC0A-6FF44EFD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3C4D8-AFC6-4ADA-B9F2-F69FEBE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50628-B787-4337-93A2-13E91C4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71BD1-AFEA-47B0-A053-5184CC2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91B75-B282-4C9B-A1F9-1752C7A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8673-C89E-40EC-94BB-D7E09EC7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2934-CA45-4AF5-B242-939B22D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05AF-C604-49A9-BE54-F93CBCF7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0C100-95B6-4903-9E1B-F10EB4E7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58D3-9189-4098-8C51-86021330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C631-D4F6-4292-BE53-C6C2E54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692F3-60AB-47F2-9BAB-D07ADACD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4AC28-762C-4326-B80B-B72F3FA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52EDF-8511-4A91-843A-1477B12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9D278-ADAB-4766-9E4D-80A8325D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2E033-CA1C-40AA-A57F-46992E7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513A-9C94-4A35-B49B-102873C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847B8-AD0A-4AF8-B084-8FA0DB4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4022D-CAB1-4CDE-91B3-B8E37CC2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45569-23D3-4F98-9231-314BD59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0F7AF-CE21-4191-B262-FF5F971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DAF7B-80C7-410D-8BBE-90658DCC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F880A-837F-4073-B046-2FE9538D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77792-E696-4EC2-840B-5B264D9B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84576-DF06-4EBA-BB91-AE0E923D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F99B3-9220-44D9-9B4A-F394AB9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CA64C-37E6-41ED-A6CB-1D9B3D7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6245-2DE9-45BF-811F-EE02DD8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C014F-3923-4CFD-B2A3-F1F9F92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AB9E3-E1BB-4D33-8B82-396E569A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6C06F-AB5D-4789-97F8-3320467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4D54B-F5D5-4EB7-A7BF-EBBF2E2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3B3D6-F2F2-4364-BDE2-C593BFF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A2BFB-242B-4D62-94E5-B04CD97D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94103-46BB-408D-BA15-8E27CA8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F510A-ABFC-4868-8A7C-8DEC4C3D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0000E-05A2-4CDC-8E56-C96806D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E8815-61E1-493C-B5BB-973834D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9AA-4601-4514-A445-02932DC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B37D1-4D31-41CA-B173-CFD7377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55388-E5AA-4985-8EF6-95C8991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D1769-1279-4842-9B26-8D2030F8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FA493-4ACD-436D-A7D6-1FB4342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A7BAC-BF99-43ED-906C-1B0C027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BC452-3A5B-4E97-A1CC-D6B5325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51E1C-AD69-4EDC-BF1C-F441D2C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15C38-2084-4CFC-81D7-7B3521C1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FD327-EB72-4872-9E17-99C5D8A7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85E4E-89C2-4696-808F-F879CB7F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6D31-7085-4767-9C1D-2ACCCCB4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FA0B9-863D-46B3-8096-06710541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3D5CD-725F-403F-9ECC-9BE7E5A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9C0A2-358B-4231-949B-1E1D40E7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6452A-ACFB-471E-BA2C-CC4A222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33181-9D4C-48E1-AC44-26BBCD0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62551-1E8F-4243-B1D8-C2DCB1A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D10E1-ACC2-464E-9CFB-43CEF4F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40049-7591-44F6-996B-D286594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EC136-5839-4249-84D5-B5C9A225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A7B56-3CD8-4DF3-A3AC-C48D0AE0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4D57-7CB4-4BAD-9CD4-896DFF6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A9B83-540F-46C1-937D-AAE1521B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DE6FE-976B-4F2D-8525-EB68EBFE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B8AC4-3EB5-4F3A-A9E3-9FB6AF1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FD67E-836C-48F8-AD99-A3A02B2E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9A5F0-E060-446B-A912-BA599DD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13F0D-C112-4A36-BB01-468FDE2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84A4F-745C-4320-9D2F-0A2D018A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6307B-5CA8-4EB3-967B-9ED821C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2B424-CF77-4644-9EE5-A3826A4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9B588-3707-49C8-92C6-0791C9F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8E6-E717-4F74-8BD4-86C6F6E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BC37A-8C3D-4213-B888-F2708D7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D65EB-DF01-42BA-A72C-ACE1BBE4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E7057-B9BD-464F-96CD-7627D085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97ECA-F00F-444E-B295-4C040172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43A7B-7B76-46FC-839B-AA007CBA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E0C27-F896-4411-A075-323A2EC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49367-EC9F-4821-8A10-44CDC62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9D053-AC10-480D-9024-8CD9404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268AC-79C4-42D1-9A30-A5296487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970B9-DC42-44F3-B125-8F98F9CC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309-AE1C-4B18-B850-108AEFC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612A-2F16-4EC3-840F-8D46889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10C83-6DCD-4085-9D91-9ADEC42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E3E24-C8EE-4B21-B6F6-60EF43B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CCBEA-7434-40E0-86AC-258A1AE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13016-A308-43A1-8CEA-CFCF7DE9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0E231-3965-46D1-AB7E-202AF45D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28941-DBB6-4726-B5FC-2BC7BCB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730AD-7C86-499B-81CE-980D269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C568C-797A-4816-830A-EA9D75E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32073-0CD0-4AB3-A24D-94F2363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B08F5-B082-47E5-B99D-99220979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01D3-0FA2-4397-A379-0E50A40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D0D92-CF0B-4337-AF49-6AACA07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CA2D9-FC26-40DA-8230-8A80020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C7642-B129-40DF-A8CC-CE0653F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C35D9-C663-4437-9CE6-763615C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1EF07-F1C2-47E5-9DDC-443EC8E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3ACF5-1882-4E41-BD7D-5E3DAE5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02FD0-7768-4070-9FC6-AE8C12F5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BE08D-FC04-4759-9927-AD628E36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845C1-AD33-4CC2-BA47-625BD35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5A80E-60FC-4FF2-888C-065190BD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DC4A-9B71-47E4-A4F4-310AD54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819A1-5088-4C3F-AB85-31607A9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6A0A2-0701-4FC3-8F50-C0EDD6D5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54F2C-62E2-4325-9B26-D71E955A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C5D9A-D29D-4C35-AAB1-28B84E8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BCA9C1-3A9B-4C57-A11D-4A0F4F79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FFE21-0AC4-49BC-AB7E-6ECDBC6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057A7-CED1-4957-A178-D5D96F4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B2464-0F94-4936-8819-54829D66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7C25E-D9FB-43DA-8EE0-D8BFCE9F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AFCDEA-C8BC-4C10-9F41-60D12E38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14B5-2945-4432-933C-D6C0A5C0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9C2A7-C4B8-41D7-87F3-786E0CDD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E829C-7E7F-4D22-8297-BBBE3B2E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DCBE1-999B-4715-A9C0-9743C8F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44057-0302-49E7-9452-6DD5685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A44FF-E107-4165-8F34-56B1649F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B244F-20D4-47D4-9213-853B7FE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8889F-00D3-4EA4-81FC-F5E1774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3E72F-4C52-4735-994D-F5B78C8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36B5E-E939-44A2-8E0B-E333FD5E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ED3A1-CC5F-49CD-803E-0AABBA5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B39-A7C4-4C28-A837-FE0A50D4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987DA-384F-421F-B917-D70E92BD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77F2B-C237-45E0-AC9B-CD9DDC0D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557E9-0097-43C8-956A-BF1E4FE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B6C72-BB29-438A-A3FA-1366D78E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8923B1-8D97-472D-9918-607E2D11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8A429-9C4F-4248-8472-4D96A31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DDB18-58B2-4AC8-8394-FD837B4C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E8D11-342D-40F0-A3BE-C5D340C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35CB0-641F-43F4-8F66-2D83B9E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BB13D-863D-4A77-83B4-E8CAF40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23F6-9DA6-485F-B54D-AF3BEA4F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58C6F-EDA0-4E5C-87F9-59743FC0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AC07C-52AB-47FF-AEC6-38FCC3C1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1D70D-D1A0-419F-99AF-21CFA082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AD4A-2C92-4397-96A4-AA120605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51A0-13B4-4031-866A-5E1E09F1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6FEB-CA7D-47CA-B79F-D1ABDFE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14E9-A0B0-4ED9-95E8-03A4553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FB4-5726-4646-8178-0761001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7F30-1E5D-4EC2-83D0-BABB775C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7F33-4356-43B2-B525-63528346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49DB-BF31-42D1-A6FD-4F0EF7D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4730-E992-40D5-8775-ED24673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12A7-8D7A-466C-8DD8-F801094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035E-C5B5-41B7-AF6A-C8B9ECA9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B423-2039-4995-93D9-C3B81CD4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0EBB-18A5-4604-857E-0C7BDBF5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27DF-F3A9-450E-A78E-CCBD6EC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2357-53A1-45B3-9AE2-8A1478C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B3D-3607-4115-A1A1-1B76E40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27D8-483F-4C2A-B30B-63E82813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B7E67-1380-4B28-9B23-97EF933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5594-1F7C-46C9-A1C7-F86BBC0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47CD-A008-4236-9C98-EEA6775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7E7F-FF8A-4AC5-A4B1-5ACCC04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D71E-168E-4359-9F88-DC2B3C7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D370-77D3-41D3-B321-2C8A9273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F410-A581-47E4-9F2C-9CA09630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ADA6-BB11-4DA7-A253-AAD6A126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392F-6545-43DD-AB5F-CE1CF025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7D7-7C83-4117-B6BC-94D5537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1548-582C-4146-9695-BF2DFA8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9ECC-4094-419E-AFDE-7AA1DAE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7749-6628-48D2-99A2-49AF55E9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F7B7-501F-4D34-9640-1E7267E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BC26-CD4C-43A2-9F75-41CF6D6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38F4-4EF1-4351-A292-B8D9C7C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9C1E-462E-4A8F-B863-77B96D2E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BD8B-C9D1-436C-B610-8D4CF07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01B8-8358-4600-BB95-9A6BC6F9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667C-98D2-4FB3-A5A8-38C157E5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96B-D6EF-40DC-BDB8-3AB3D10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9D31-1862-462D-83BE-9DB3E1A0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F5E9-065E-453F-BC4B-8CCAAF91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51C7F-4621-470E-9D9F-4D908EA7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0858-8B77-4494-9A86-B3C82574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3667-E753-4198-822E-05106F6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6C43-52AE-4550-A287-7E0BF4E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84ED-389B-4AF2-89CD-8E8F7B7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2F69-7A14-4EF4-96F2-9BA785E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3068-C7A0-47A8-A849-71BABDCA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9CBE-7195-4B9C-B51D-10CAD10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CDF-DA41-47E5-AF11-F804F3D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F8BB-B1BA-4C03-8528-73C55F6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C34F-841F-454D-94A5-CD9D4E52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87482-F7CC-4DF3-873F-84B76A21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2F30-1002-47EA-B137-E8FF4035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823F-CD66-4518-934E-A0C7C62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516A-9A28-4CA1-B038-C0E226BE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C42B-66D0-4884-8984-29FE3EB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2A49-96EE-4076-B162-9CD49B9A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14CD-AFC2-4BB4-BACF-1E9E2907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ABB6-13DD-4B64-B389-5D80FBB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399-84B4-43A2-8109-7CB6641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FF7F-D208-41B2-8517-DBE0709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B8C9-0B0F-4A96-A431-5001CAC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5113-CF6B-428E-98D9-AFF2F791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CA46-A5F9-45D1-9302-360A5AFB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9D8B-4F50-473A-AB26-B4D2A768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BA5F-CEEE-4353-AD59-265D21EC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8835-B58E-4431-A157-4DD410E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78C9-C48A-444F-B9F4-430A2E3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8483-DFD3-4792-A243-3A634C6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FF8DC-3321-4E65-A496-3661FF6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B5F-EB3E-4A60-8E14-8BC28EA0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F2FC-642C-49F3-9A0F-6922C13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6546-1707-4E4D-B29F-907E336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FF92-FD9F-4A7F-AC34-DCF32FD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5292-A1B0-4F40-94A4-9A5DCF3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F5A52-E2A4-4257-90EF-44167767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7B7C-60D1-4739-B701-4F88F1A9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EA509-386D-4FBB-B3AB-9FDEE56F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12CAD-9D69-48DB-9F20-7CB17DBD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44128-8AD4-4FAB-9171-34CEA830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4E91F-3A71-45D0-B864-F1795EF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A55B-3145-4B70-9891-ADCF4BA3F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81A-ABE3-4718-B549-000166C60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019A-C60A-4C45-B4F3-EED40507C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1A9-358E-4FBA-8179-0DCF388F7F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BBDD-D244-48E5-B948-3338543E2B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21C-77AA-44F4-8FB6-E81E79676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15DA-B6D7-4467-B757-56337D2C54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9C6-3034-4BF2-A3E1-008E22DDE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09C-4DD2-4A0F-A93F-4BE0C56AB1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3B7-DB2D-4462-BFF3-1D94ACE4B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C1D-CEFF-4E32-9CE7-3F3C71B6E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680-7DCF-46B6-A1DE-49727AE37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78C8-7F4F-4C0B-93DA-4DF8DB2B9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3205-D3E7-45AB-AB05-A96A3B5CBF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0E7-E41F-46A7-99C1-AAC9B1217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C19-D3B1-47EB-82A0-D2D7542AD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244-2864-4E95-ABA4-530A5229A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293-9FE7-4EA7-9F3E-B7FA4D223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7879-FD77-442C-BDAD-16C352418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B6B-F27C-44E7-8564-6C4BE28D0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42D6-C2EA-480D-BC87-DB4350EE01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50B3-9AD5-4FD8-B4C3-7E79E4062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AE6E-5893-401A-86D5-F59A7975E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647-7F43-4E75-9E07-DEA16853D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91A8-1C31-47B6-8371-003B33C28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D3B-3AC5-4A49-A742-84327B716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AC6-3DCF-4680-B3CE-6DE5C5365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F06C-C2A5-470B-BCDB-A47AEF67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7FC8-2B40-47D7-987F-3FCBAE558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D56-7CC6-458A-9F71-2773F3C31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507-805D-4D6B-9385-2FF5697DD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5976-24E9-4338-BC89-88657B8B7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64D5-76D1-4AB1-AE56-08B3ED317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7B0-3389-4873-8D58-8EF63C1A7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38B-1DC2-4B90-B000-F573E1AAF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C727-3B50-49C7-B20A-29DD7EA78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63A-EE83-4E25-B55A-84944B839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89B-4A89-459A-91C1-B63FC417F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2A7-2424-4A77-BC59-2B8BCD7F6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AA8-96DB-4F77-86E3-78C654DEB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57480" y="2503440"/>
            <a:ext cx="6629400" cy="6382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14480" y="3749760"/>
            <a:ext cx="89154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1"/>
          <p:cNvGrpSpPr/>
          <p:nvPr/>
        </p:nvGrpSpPr>
        <p:grpSpPr>
          <a:xfrm>
            <a:off x="299880" y="2347920"/>
            <a:ext cx="8542440" cy="2162160"/>
            <a:chOff x="299880" y="2347920"/>
            <a:chExt cx="8542440" cy="216216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299880" y="2347920"/>
              <a:ext cx="85424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547640" y="3298680"/>
              <a:ext cx="7128000" cy="77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直接连接符 4102"/>
          <p:cNvSpPr/>
          <p:nvPr/>
        </p:nvSpPr>
        <p:spPr>
          <a:xfrm>
            <a:off x="2124000" y="3284640"/>
            <a:ext cx="172728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>
            <a:off x="4500720" y="3284640"/>
            <a:ext cx="17269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4"/>
          <p:cNvSpPr/>
          <p:nvPr/>
        </p:nvSpPr>
        <p:spPr>
          <a:xfrm>
            <a:off x="6300720" y="3284640"/>
            <a:ext cx="172728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5"/>
          <p:cNvSpPr/>
          <p:nvPr/>
        </p:nvSpPr>
        <p:spPr>
          <a:xfrm flipH="1">
            <a:off x="1835280" y="3284640"/>
            <a:ext cx="61214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6600" y="1776240"/>
            <a:ext cx="9010800" cy="3305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116000" y="236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99960" y="1871640"/>
            <a:ext cx="8344080" cy="3114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55640" y="1859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114560" y="2062080"/>
            <a:ext cx="6914880" cy="2733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2124000" y="37893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14200" y="1152360"/>
            <a:ext cx="8713800" cy="4553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320364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667640" y="31701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148360" y="49276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2:5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